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EE23-D63A-427F-9691-DDF9C2FEA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A587-1240-4F06-84CB-8CF6DCCA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797A-8E63-476E-A022-231171E5D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C0AD-7C16-4FCC-84CA-C6C9CDA10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9207-0469-4BBF-B275-1E592CE2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8E26-3A48-4479-8495-C5223B95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E4EA-070C-4AB1-9C74-AD677B56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0636-FE4F-4560-9CA5-5C495B1F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59EA-B80B-4159-B511-C15BA1B5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25ED-239C-4FBC-8D79-AC5B5E9A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E76A-4EE9-40BB-8263-7FA476D7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7212-199D-4C42-B52C-52DB2E43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E66B-94A9-4F43-AFDA-86E522727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pemberton.html" TargetMode="Externa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477120" y="5253120"/>
            <a:ext cx="26668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33"/>
                </a:solidFill>
                <a:latin typeface="Arial"/>
              </a:rPr>
              <a:t>Kayla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Dec,7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eri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Computer#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20835600">
            <a:off x="1218960" y="837720"/>
            <a:ext cx="7078680" cy="257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Ravie"/>
              </a:rPr>
              <a:t>Coca- Col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Ravie"/>
              <a:ea typeface="Ravie"/>
            </a:endParaRPr>
          </a:p>
        </p:txBody>
      </p:sp>
      <p:sp>
        <p:nvSpPr>
          <p:cNvPr id="44" name=""/>
          <p:cNvSpPr/>
          <p:nvPr/>
        </p:nvSpPr>
        <p:spPr>
          <a:xfrm rot="20905800">
            <a:off x="1752840" y="4648320"/>
            <a:ext cx="419112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Free Play Music, </a:t>
            </a:r>
            <a:r>
              <a:rPr b="0" lang="en-US" sz="2000" spc="-1" strike="noStrike" u="sng">
                <a:solidFill>
                  <a:srgbClr val="66ffff"/>
                </a:solidFill>
                <a:uFillTx/>
                <a:latin typeface="Arial"/>
              </a:rPr>
              <a:t>Geto_ Bou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December 8, 20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15000" y="39625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Invented by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66cc"/>
                </a:solidFill>
                <a:latin typeface="Tahoma"/>
              </a:rPr>
              <a:t>John Perbe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Pemberton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914400" y="304920"/>
            <a:ext cx="2286000" cy="3124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38080" y="37339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Lemels MIT, </a:t>
            </a:r>
            <a:r>
              <a:rPr b="0" lang="en-US" sz="1800" spc="-1" strike="noStrike" u="sng">
                <a:solidFill>
                  <a:srgbClr val="ff0066"/>
                </a:solidFill>
                <a:uFillTx/>
                <a:latin typeface="Arial"/>
              </a:rPr>
              <a:t>John</a:t>
            </a:r>
            <a:r>
              <a:rPr b="0" lang="en-US" sz="1800" spc="-1" strike="noStrike" u="sng">
                <a:solidFill>
                  <a:srgbClr val="006699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99cc"/>
                </a:solidFill>
                <a:uFillTx/>
                <a:latin typeface="Arial"/>
              </a:rPr>
              <a:t>Perbert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a038ca"/>
                </a:solidFill>
                <a:latin typeface="Arial"/>
              </a:rPr>
              <a:t>December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8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2011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pembert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76212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Arial"/>
              </a:rPr>
              <a:t>John Pemberton has made the 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ost popular fountain drink in the</a:t>
            </a:r>
            <a:r>
              <a:rPr b="0" lang="en-US" sz="18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orl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5029200" y="1828800"/>
            <a:ext cx="3147840" cy="3429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5334120" y="5715000"/>
            <a:ext cx="3352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lip art, pop December 8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vention: Coca- Co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oca- Cola is one of the most popu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ountain drinks in America, as well as</a:t>
            </a: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ntil 1905 Coca- Cola contained extra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f cocaine and kola n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e original formula was made in 18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ca- Cola is the most popular drink 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Inventor: John Permber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ermberton was born in 1831 in Knoxville, Georg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t the age of 19 he got a medical degree practicing medicine and surg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en his patients had a headache he would give them something called “Permberton’s French Wine Coca”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ter became Coca- C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Later, Permberton took a brass kettle in his back yard and then took a mixed version of the syrup and th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became Coca- C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 1888 he sold his rights to Coca- Cola and later th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ear John Permberton d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5:28:38Z</dcterms:created>
  <dc:creator>install</dc:creator>
  <dc:description/>
  <dc:language>en-US</dc:language>
  <cp:lastModifiedBy>install</cp:lastModifiedBy>
  <dcterms:modified xsi:type="dcterms:W3CDTF">2011-12-16T15:30:30Z</dcterms:modified>
  <cp:revision>11</cp:revision>
  <dc:subject/>
  <dc:title>Slide 1</dc:title>
</cp:coreProperties>
</file>